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311-AB37-498A-986D-30B15C5C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4A1-B2E5-49E6-B61E-01F32872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42B-E2E2-441E-AB1E-0CE7B76D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15A-A2D5-4A1C-BF3F-24958A1F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7C6D-E6B1-4782-8094-E4911850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CC64-F0CA-4335-8D37-43B4491F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FB88-80E9-4A0F-BEDF-DCBB4798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6CCE-0569-4F5B-B3A5-F4DA375D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04CD-9A80-4CA1-A7AF-B14193AA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F853-5E07-414D-BF85-E034437B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F541-7437-4196-8AB0-9091F3D0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145-6072-4521-B302-D50052D4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5C05-450B-4C45-B4A6-76A9FFC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0D54-F696-4576-AC2F-7DEF76E0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3876-A865-4869-9FC2-1AF149CD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AA20-327C-41E7-9632-197E447C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55AA-858C-48E6-A153-63E147B4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2723B-94A4-46DA-9E30-77EC57CD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7CDCE-6767-41DD-BBE4-74E92A43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909CC-7280-455C-86A5-D9DA6318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48396-8A8E-4568-AD34-48701491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9F042-0453-4BFD-ABEA-80160DA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97D-9307-4378-8D3B-ADAEBC4F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E31AC-63C1-4B79-8D5E-5CC2188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4E640-AE2E-410F-8345-29B87DD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B8CAB-2DF1-4593-888C-0473F3C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EE3B0-1C5F-4FA3-87AF-1FAE34CE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4703D-5C54-486E-8CE2-BDEFE939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2F5DE-D7F5-4CC6-ABCD-B5CE4F8A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43C89-C04C-461A-823D-C6926A81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1630-A4B1-453A-8503-DA85CEDA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996A-D2C1-4115-BE5A-90D9CF5B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22EA8-FF16-4C9B-8EDF-0D22A9E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D69-C7CC-4670-AB94-4BDACD2A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DB0F7-9EE6-4544-9453-0068FEA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96A0-B918-4628-B453-9A51611E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D47C-36FF-430C-B486-F607F797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81ED-12D5-4059-BCC1-F560191E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F8E4-2D82-4593-829E-60EF8EC1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2FC03-E719-444A-A3D5-B6E253BD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57101-D14F-4907-B70A-19BC0181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B735-DDEB-48C1-9B0A-7F6699CB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D56F0-C9DB-433A-833F-47CB494D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431-BC3C-4F1F-A83C-1C9B7CAD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AB4-CDCF-4832-9076-6A16EBA9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B7E-D83F-47C7-9019-0728986B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65A-BD90-42C4-9F77-11942F3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8A7-DEAA-43D2-B9EB-00B672A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D78E-1844-40E4-AE96-9DEDB67DBBA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4825-92C2-4808-813E-1BD3F7D0F22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1532-D7E5-4516-AE17-6087A85407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B0E1-FD39-46C3-A784-B1451D7E0E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sbw.ru/part.php?id=32" TargetMode="External"/><Relationship Id="rId2" Type="http://schemas.openxmlformats.org/officeDocument/2006/relationships/hyperlink" Target="http://www.dsbw.ru/part.ph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447920" y="3808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Замки Луар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1828800"/>
            <a:ext cx="19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Проект Попова Никиты, ученик 10 класса, СОШ № 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Шамб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724280" cy="3649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486400" y="1219320"/>
            <a:ext cx="3317760" cy="4297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19320" y="62485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Картинная галер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7150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кои Франциска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09680" y="6094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00664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рия французских королей привлекала к себе внимание не только историков. Она вдохновляла писателей и поэтов, приковывала к себе внимание сотен тысяч людей, которые начали познавать ее еще в детстве, с Дюма и Дрюона и навсегда остались очарованными этой цепью необыкновенных историй, кажущихся легендами. Легенды эти сохранились не только в умах и сердцах людей. Их хранит один из самых долговечных строительных материалов на свете – камень замков на берегах Луа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8120" y="609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84320" y="1442880"/>
            <a:ext cx="7019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www.dsbw.ru/part.php?id=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guide.travel.ru/luara/index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dsbw.ru/part.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u.wikipedia.org/wiki/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мки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Луары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?id=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295280"/>
            <a:ext cx="82296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доль Луары, одной из самых красивых французских рек, выстроились как в почетном карауле необыкновенной красоты каменные замки, и каждый - сама история. Одни названия их могут поразить всякого, кто понимает толк в красоте речи, - замок Шенонсо, замок Амбуаз, замок Фужер-сюр-Бьевр... О каждом замке можно было бы написать отдельное исследование, причем пришлось бы привлекать историков, литераторов, архитекторов, археологов, искусствоведов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авайте посетим некоторые из них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4572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Вдоль Луары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2627280"/>
            <a:ext cx="5791320" cy="4230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Анж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нжер, лежащий на берегах реки Майен, с древнейших времен был занят племенами гордых кельтов, упорно сопротивлявшихся вторжению римлян. В IX веке, по прошествии долгих лет набегов норманнов, Фульк Нерра, граф Анжуйский, воздвиг здесь укрепленный зам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2666880"/>
            <a:ext cx="30481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В 1228-1238 гг. Святой Людовик добавил к замку целый комплекс фортификаций. Впоследствии этот ансамбль был еще более расширен при Людовике I, герцоге Анжуйском, и при Людовике I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5181840" cy="3446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114800" cy="2685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Анж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Зал с гобеленами Апокалипс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594216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Иоанн, Ангел и Новый Иерусалим, представленный в виде укреплённого за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09680" y="2286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Блу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180040" y="1143000"/>
            <a:ext cx="3963960" cy="5715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52280" y="1143000"/>
            <a:ext cx="4953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юди обратили внимание на это заповедное место очень давно, много тысячелетий тому назад. Высокий скалистый утес, омываемый водами Луары и впадающей в нее небольшой реки, обеспечивал надежное укрытие и защиту; без сомнения это место было обитаемым еще в эпоху неолита. Однако упоминание замка встречается только в текстах IX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 середины Х века Блуа и его окрестности становятся владением могущественных феодалов - графов де Блуа, вассалов короля Франции, они же - графы Тура и Шартра, затем Шампани, которые много раз переделывали укрепленный зам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Блу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Ло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Ло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481120" cy="5394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4419360" cy="27608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733920" y="1143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В подземных помещениях этого замка, которые открыты для посещений можно увидеть зал пыток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н был оборудован в середине XV века Карлом VII. Здесь еще хранятся некоторые орудия, с помощью которых крепились лодыжки пленников при четвертовании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Шамб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181480" cy="5562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715000" y="1295280"/>
            <a:ext cx="312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т он - один из самых прекрасных ренессансных замков Долины Луары. Местность, на которой он возвышается, принадлежала в Х веке графам Блуа, Шампани и Шатийона. В 1392 году она была приобретена Людовиком Орлеанск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09</cp:lastModifiedBy>
  <dcterms:modified xsi:type="dcterms:W3CDTF">2009-12-08T11:12:5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